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404-BC90-4783-A2F8-B8AFE4CC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070-096F-4834-84CC-8A9B59EF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E5C-A63F-43CD-B60E-652E1E67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D8D-5FC4-497A-B2D6-B7375736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795-6900-4B39-BB62-15882A2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579-9DF6-4B55-884E-0CA65A64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657-E8D2-442F-BB98-0215639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367-BDD2-4037-AC24-722364C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DC5-F600-4922-A1EF-8BC4898F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2DE-101B-4878-BF84-5318DE40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359-6EEE-4EB5-B406-591657E0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F64-2AC6-478C-BC61-9814AFE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4762-5E33-4B08-B206-E27CA487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NTOS  CALIENTES  Y  PLUMAS     MANTÉ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O OBSTANTE  QUE  EL  SISTEMA TECTÓNICO   ES  DOMINADO  POR   PROCESOS  GEOLÓGICOS  QUE  OCURREN  EN  LOS MÁRGENES  DE  LAS  PLACAS,  Y  EL  ENFOQUE  PRINCIPAL  DE  LO  VISTO  HASTA AHORA   SE  CENTRA  EN  LOS  BORDES  DE  PLACAS,   EL  INTERIOR  DE  ÉSTAS  NO  ES  TOTALMENTE  PASIVO,  NI  ESTÁ  COMPLETAMENTE  QUIE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EJOS  DE  LOS  BORDES  DE  PLACA,    LA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PARECEN  SER  LA  EXPRESIÓN  MAYOR  DEL  CALOR  INTERNO  DE  LA TIERRA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 TRATA  DE   UNA  FUENTE   DE  MATERIAL  CALIENTE,    QUE   ASCIENDE  DESDE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ÍMITE   DEL  NUCLEO  CON  EL   MAN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EN  FORMA  DE  LARGAS  COLUMNAS  VERTICALES,  QUE  AL  LLEGAR   CERCA  DE   LA SUPERFICIE,   PRODUCEN   LOS  CONOCID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( “HOTSPOTS”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UNTOS  CALIENT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SE   CARACTERIZAN  POR  PRESENTAR  UNA  VASTA  CORTEZA  HINCHADA,  ACTIVIDAD   VOLCÁNICA   INTENSA,  Y    ELEVADOS     FLUJOS  CALIEN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MAGMA  BASÁLTICO   QUE   SE  GENERA  EN  UN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UNTO  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,      SE  DISTINGUE  PORQUE   HA  DERIVADO   PARCIALMENTE   DE  VESTIGIOS  DE   ANTIGUOS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“SLAB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”  SUBDUCTADOS    HASTA  LAS  PROFUNDIDADES  DEL  MA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 LOS  EMPLAZAMIENTOS  CONTINENTALES  SE  PUEDE   FORMAR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IOLIT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ENCIMA  DE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  MANTÉ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POR    MEZCLA  PARCIAL  CON LA CORTEZA,   O   POR  CRISTALIZACIÓN   FRACCIONADA  DEL  BAS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PUNTOS     CALIENTES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CERCA  DEL  FONDO  OCEÁNICO,   PUEDEN PPRODUCIR  ABUNDANT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EN  EL  FONDO  DEL  OCÉANO,  Y  FORMAR   EXTENSOS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PLATEAU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EÁN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  CONTINUAR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CA LITOSFÉRICA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PLAZÁNDOSE   ENCIMA  DE  LA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SE   FORMA  UNA  ANGOSTA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DENA  DE  MONTES  OCEÁNICOS 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CON   VOLCANES ACTIV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ODUCIENTO  DIRECTAMENTE    ENCIMA    DE   LA   COLA  DE   LA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(Ej.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RCHIPIÉLAGO   DE  HAWA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N CASO  QUE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LA   PLU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ESTÉ  CENTRADA  EN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DGE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EDIO  ACEÁNICO,  SE  FORMA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ATEAU    VOLCÁN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ALARG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S  MANTÉLI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CERCA  DE    CONTINENTES   PUEDEN  CAUSAR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LZAMIENTOS  REGIONALE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Y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RUPCIONES  D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 CONTINENTALES  BASÁL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TAMBIÉN  SE  PUEDEN   DESARROLLAR,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S  DE  CALDERAS  RIOLÍTC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SI  LA  CORTEZA  CONTINENTAL  SE     MEZCLA  PARCIALMENTE  CON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 BASÁLTICO CALIENTE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PL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INALMENTE,  SE  PUEDE  SOSTENER  QUE  LAS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PLUMA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UEDEN     EFECTAR    EL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ISTEMA  CLIMÁTIC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  LA TIERRA  Y  SU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AMPO MAGNÉ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7T20:10:21Z</dcterms:created>
  <dc:creator>Universidad de Chile</dc:creator>
  <dc:description/>
  <dc:language>en-US</dc:language>
  <cp:lastModifiedBy>Universidad de Chile</cp:lastModifiedBy>
  <dcterms:modified xsi:type="dcterms:W3CDTF">2001-06-27T22:33:51Z</dcterms:modified>
  <cp:revision>5</cp:revision>
  <dc:subject/>
  <dc:title>“HOTSPOTS”     Y     PLUMAS     MANTÉLICAS</dc:title>
</cp:coreProperties>
</file>